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8DDC-6C50-45ED-92CA-C8FF888B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1476-5A39-4278-B796-790C99F38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B0C2-9B3A-4185-9535-A77ED6CF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FA74-D964-4177-AEE4-123ECF4F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566C2-1B17-4B18-9F01-9C1242DEA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0421-B2F4-4C00-A1C6-9FEBA01F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67C32-E132-4EF2-8E71-AB715DD0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6D672-5367-4BCC-9B31-EB45765A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58770-19D8-49F3-9FD5-4D586269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6E5EF-DB9C-474B-A5F0-C8BE75B8A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996B-BEC2-4D2D-B465-25C724D8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87B0-80BE-4E68-B097-96A044CD5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98DE-BD41-4553-8CD0-3306E5914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199F-16C2-46AF-A773-897CE0A60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FE3BD-06F7-4B2F-A5D2-AD8A32BD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A2CAF-2FC2-43D3-8954-1C5F56BBB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79B95-F362-487E-BFF7-27339B7D8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DED-E838-4546-BEF9-E77FB4897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6FE1-50D2-44A6-A95E-3FD29F27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DB6-5383-45BD-8D95-2A037E47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64AE-61F1-48D1-84E6-6FDE7D23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0040-D5D6-4BE3-959F-14CF146D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49CD-B3A7-403D-AA80-03D66BB5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E286-57B9-4D7D-8D95-950973AF1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1740-0AEB-4BFD-9766-439040D2BC5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0944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094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376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09440" cy="1094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094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0944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0944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19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376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09440" cy="11196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09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98D70-F1E7-43EA-9582-D1DFF6E3378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mailto:mslavkovic@kg.ac.rs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1519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ФОРМИРАЊЕ ЦЕНА</a:t>
            </a:r>
            <a:endParaRPr b="1" lang="en-US" sz="36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6" descr=""/>
          <p:cNvPicPr/>
          <p:nvPr/>
        </p:nvPicPr>
        <p:blipFill>
          <a:blip r:embed="rId1"/>
          <a:stretch/>
        </p:blipFill>
        <p:spPr>
          <a:xfrm>
            <a:off x="5715000" y="4419720"/>
            <a:ext cx="1424160" cy="163836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7"/>
          <p:cNvSpPr/>
          <p:nvPr/>
        </p:nvSpPr>
        <p:spPr>
          <a:xfrm>
            <a:off x="1600200" y="4952880"/>
            <a:ext cx="432108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УНИВЕРЗИТЕТ У КРАГУЈЕВЦ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ЕКОНОМСКИ ФАКУЛТЕ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Крагујевац, 2019. год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" name="Object 8"/>
          <p:cNvGraphicFramePr/>
          <p:nvPr/>
        </p:nvGraphicFramePr>
        <p:xfrm>
          <a:off x="380880" y="4419720"/>
          <a:ext cx="1447920" cy="1773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4419720"/>
                    <a:ext cx="1447920" cy="177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6" name="Picture 13" descr="memo grb copy"/>
          <p:cNvPicPr/>
          <p:nvPr/>
        </p:nvPicPr>
        <p:blipFill>
          <a:blip r:embed="rId4"/>
          <a:stretch/>
        </p:blipFill>
        <p:spPr>
          <a:xfrm>
            <a:off x="457200" y="0"/>
            <a:ext cx="809640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з претпоставку да је стопа трошка администратора 750 еур, а лекара 2.150 еур може се израчунати трошак пацијен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рошак капацитета за медицинску сестр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4 с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8,58 е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3,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рошак капацитета за администрато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3 са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6,96 е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рошак капацитета за лека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0,15 сат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19,19 еур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 2,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Укупан трошак посете пацијента = 8,3 е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800" spc="-1" strike="noStrike">
                <a:solidFill>
                  <a:srgbClr val="ff7547"/>
                </a:solidFill>
                <a:latin typeface="Arial"/>
              </a:rPr>
              <a:t>Хвала на пажњи</a:t>
            </a:r>
            <a:r>
              <a:rPr b="1" lang="en-US" sz="4800" spc="-1" strike="noStrike">
                <a:solidFill>
                  <a:srgbClr val="ff7547"/>
                </a:solidFill>
                <a:latin typeface="Arial"/>
              </a:rPr>
              <a:t>!</a:t>
            </a:r>
            <a:endParaRPr b="1" lang="en-US" sz="48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Доц. др Марко Славкови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8080"/>
                </a:solidFill>
                <a:uFillTx/>
                <a:latin typeface="Arial"/>
                <a:hlinkClick r:id="rId1"/>
              </a:rPr>
              <a:t>mslavkovic@kg.ac.rs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ww.markoslavkovic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Формирање цена услуга здравствених установа зависи од већег броја факт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Политика це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може бити заснована на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два принцип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Покриће трошко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без изричито постављеног циља достизања одређеног ниво профита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Остваривање профитабил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ступ формирања цена треба да буде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заснован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неком од релеватних система обрачуна трошкова, а најбоље на неком од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савремених приступ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ез </a:t>
            </a: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рецизног обрачуна трошков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е може се имати добар приступ формирања цен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мер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TDABC обрачу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ао основ за формирање цена дат је у наставк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долази “спољни пацијент” у болниц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рачунавање укупних трошкова здравствене неге пацијент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захтева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идентификацију процеса и ресур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који се троше проласком кроз процесе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корист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дминистративни 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риликом регистрације на шалтеру 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едицински 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Административни 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приликом регистрације на шалтер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је потрошио 18 минута (0,3 сата) са администратор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едицински 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- приликом преглед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је потрошио 24 минута (0,4 сата) са медицинском сестром и 9 минута (0,15 сати) са лекаром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рачун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колико кошта услуга по минуту или по сат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е заснива на следећој једначи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опа трошка запосленог који пружа услуг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Укупан трошак ресурса потребан за обављање здравствене услуге / Расположиви капацитет времена по запосленом који пружа здравствену услуг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457200" y="1719360"/>
          <a:ext cx="8229600" cy="3538440"/>
        </p:xfrm>
        <a:graphic>
          <a:graphicData uri="http://schemas.openxmlformats.org/drawingml/2006/table">
            <a:tbl>
              <a:tblPr/>
              <a:tblGrid>
                <a:gridCol w="6400800"/>
                <a:gridCol w="182880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репоставка трошкова за медицинску сестр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 евр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одишњи трошкови плата и накна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6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ошкови надзора рада (10% укупних трошкова надзор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78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ришћење простора по м2 на годишњем нивоу (8 евра / м2 месечно, 10 м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Т и подрш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и годишњи трош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5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и месечни трошков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719360"/>
          <a:ext cx="8229600" cy="4449600"/>
        </p:xfrm>
        <a:graphic>
          <a:graphicData uri="http://schemas.openxmlformats.org/drawingml/2006/table">
            <a:tbl>
              <a:tblPr/>
              <a:tblGrid>
                <a:gridCol w="6400800"/>
                <a:gridCol w="18288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сположиви дани у год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9900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ан број д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викенд д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дани годишњег одмо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државни празниц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дани боло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 расположиво дана у год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купно расположиви дани у месец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ложиви радни сати у недељ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пау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нус састанци, тренинг и еду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efe7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положиви радни сати у дан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dec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ff7547"/>
                </a:solidFill>
                <a:latin typeface="Arial"/>
              </a:rPr>
              <a:t>Формирање цена</a:t>
            </a:r>
            <a:endParaRPr b="1" lang="en-US" sz="4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22960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едицинска сестра у случају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цијен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расположива је за рад са пацијентима 18,66 радних дана са по 6 сати са паци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има у дану. То је 112 сати рада месечно (18,66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6 = 11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опа трошка за медицинску сестр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962 еур / 112 = 8,58 еур по сату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2T19:12:42Z</dcterms:created>
  <dc:creator>User</dc:creator>
  <dc:description/>
  <dc:language>en-US</dc:language>
  <cp:lastModifiedBy>Marko Slavkovic</cp:lastModifiedBy>
  <dcterms:modified xsi:type="dcterms:W3CDTF">2019-03-30T15:51:02Z</dcterms:modified>
  <cp:revision>177</cp:revision>
  <dc:subject/>
  <dc:title>Soft and Hard Skills Development: A Current Situation in Serbian Companies</dc:title>
</cp:coreProperties>
</file>